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D29DA-DDFA-46B0-BA8E-827BEA24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FF9C5-1382-4F3B-96F0-72D31FFE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ABD20-AFF8-4A90-89DC-C9651F33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3411B-7D9F-4024-9D0E-9D1A7B0D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8E9B-1FCC-4B47-AE4A-FFF99F68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5E1A-585C-4283-899F-84609B3D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1280-8B54-400F-B4E5-BFEDB29E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369F-A370-40AA-8FBA-B3918A07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EBA2-65BB-4782-9B56-78403ED8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910F-7349-4C2E-A388-ABBC5E35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629F-CEB6-477B-9DF9-9045DEA7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429E3-1726-4588-B2E5-69C335E0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0102-5744-4652-A668-E82CBFA7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03CF-E33D-4BB8-B56E-380EA9AE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9B6A-F11C-4684-A7B5-BB2BF68B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E3D3-4C77-4E4E-9916-83E94DC0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0F30-68AB-45BD-844E-9739A252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81884-E74A-4D99-ACF2-E3EC5D52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40870-07C7-4BBF-A64B-D230F39C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F2E23-95B7-402D-9EA1-5AEE814F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3851C-0DCB-47E8-BDA3-002C9033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7AB0B-BC97-4011-AC5A-425ABC42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69052-BDC7-4311-9EE4-D536BBDD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594E7-3235-4BA8-A4C7-CA4346CB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FCC9-F947-4BA2-A242-9389C705280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6415-4DDE-42A3-B156-A4110B17E57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691640"/>
            <a:ext cx="11131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99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89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ла, Исусе мой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тори ме да съм Тв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рце ми очист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реха ми опрост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22184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ла веднага, Боже мой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душата ми Ти дай пок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ой греховний дълг поправ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мен снежнобял направ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Бял като сняг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ой греховний дълг поправ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мен снежнобял направ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6312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Свойта мощ яв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грях ме избави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уха Си Свят ми дай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оди ме все към ра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122184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ла веднага, Боже мой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душата ми Ти дай пок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ой греховний дълг поправ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мен снежнобял направ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Бял като сняг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ой греховний дълг поправ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мен снежнобял направ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79280" y="26312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небесний хляб хран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зло ме Ти бран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всеки ден и час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живей в мен, мой Сп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280" y="122184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ла веднага, Боже мой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душата ми Ти дай пок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ой греховний дълг поправ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мен снежнобял направ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Бял като сняг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ой греховний дълг поправ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мен снежнобял направ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6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10T10:16:06Z</dcterms:modified>
  <cp:revision>47</cp:revision>
  <dc:subject/>
  <dc:title>Slide 1</dc:title>
</cp:coreProperties>
</file>